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5C839-627C-49F7-BC7D-6A47C4D5E83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ven if pupils have to log in to a school intranet to access the survey, it is still confident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44877-C89C-44F4-A1B5-CBC36DB543F8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DD221-76BE-4229-A6FE-80964AFCB4B4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2A8C6-88D7-4D8D-9B29-054056F40478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4029-AFBA-4E3F-9856-601AFD799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E5D1-A519-49B2-8FA1-3A4E5A1D4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3500-3C49-4FDB-B27C-117588A16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B660-7809-48EF-A1AC-CE5EE01ED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9C8D-2BC3-4FC5-8151-F3FB7E386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4D91-0F4F-4EB3-B5C3-1B94EC36D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AA21-9D46-41B2-830C-39F2417DE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63AB-E854-4EEC-924B-A1D85A430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B754-24B6-42EB-8D1D-073B7B010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978C-206D-474E-B986-E9A5DF1B0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D074-4727-458E-9713-FEFC344E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F7EA-D48C-4716-B550-BE96564D7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DE7DB-214D-40A3-9E14-E653E419151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solidFill>
            <a:srgbClr val="69be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7808760" y="5529240"/>
            <a:ext cx="1335240" cy="13287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7375e"/>
                </a:solidFill>
                <a:latin typeface="Calibri"/>
              </a:rPr>
              <a:t>School Health Research Network</a:t>
            </a:r>
            <a:br>
              <a:rPr sz="3600"/>
            </a:br>
            <a:r>
              <a:rPr b="1" lang="en-GB" sz="1200" spc="-1" strike="noStrike">
                <a:solidFill>
                  <a:srgbClr val="17375e"/>
                </a:solidFill>
                <a:latin typeface="Calibri"/>
              </a:rPr>
              <a:t> </a:t>
            </a:r>
            <a:br>
              <a:rPr sz="3600"/>
            </a:br>
            <a:r>
              <a:rPr b="1" lang="en-GB" sz="3600" spc="-1" strike="noStrike">
                <a:solidFill>
                  <a:srgbClr val="17375e"/>
                </a:solidFill>
                <a:latin typeface="Calibri"/>
              </a:rPr>
              <a:t>Student Health and Wellbeing Surve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2"/>
          <a:srcRect l="0" t="0" r="0" b="10064"/>
          <a:stretch/>
        </p:blipFill>
        <p:spPr>
          <a:xfrm>
            <a:off x="1571760" y="1623960"/>
            <a:ext cx="6000480" cy="4259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50920" y="177840"/>
            <a:ext cx="1296720" cy="11286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solidFill>
            <a:srgbClr val="69be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7808760" y="5529240"/>
            <a:ext cx="1335240" cy="13287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693720" y="1476360"/>
            <a:ext cx="798192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449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7375e"/>
                </a:solidFill>
                <a:latin typeface="Calibri"/>
                <a:ea typeface="Open Sans Light"/>
              </a:rPr>
              <a:t>Our school is a member of the </a:t>
            </a:r>
            <a:r>
              <a:rPr b="1" lang="en-GB" sz="3000" spc="-1" strike="noStrike">
                <a:solidFill>
                  <a:srgbClr val="23892d"/>
                </a:solidFill>
                <a:latin typeface="Calibri"/>
                <a:ea typeface="Open Sans Light"/>
              </a:rPr>
              <a:t>School Health Research Network</a:t>
            </a:r>
            <a:r>
              <a:rPr b="0" lang="en-GB" sz="3000" spc="-1" strike="noStrike">
                <a:solidFill>
                  <a:srgbClr val="17375e"/>
                </a:solidFill>
                <a:latin typeface="Calibri"/>
                <a:ea typeface="Open Sans Light"/>
              </a:rPr>
              <a:t>, led by Cardiff Univers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49280" indent="-449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7375e"/>
                </a:solidFill>
                <a:latin typeface="Calibri"/>
                <a:ea typeface="Open Sans Light"/>
              </a:rPr>
              <a:t>As members, we are taking part in the Student Health and Wellbeing Survey in the autumn term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49280" indent="-449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7375e"/>
                </a:solidFill>
                <a:latin typeface="Calibri"/>
                <a:ea typeface="Open Sans Light"/>
              </a:rPr>
              <a:t>The survey is completed onlin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49280" indent="-449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7375e"/>
                </a:solidFill>
                <a:latin typeface="Calibri"/>
                <a:ea typeface="Open Sans Light"/>
              </a:rPr>
              <a:t>Our school will receive a Student Health and Wellbeing Report next yea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49280" indent="-4492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47280" y="310680"/>
            <a:ext cx="6713640" cy="99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7375e"/>
                </a:solidFill>
                <a:latin typeface="Calibri"/>
                <a:ea typeface="Open Sans Light"/>
              </a:rPr>
              <a:t> </a:t>
            </a:r>
            <a:r>
              <a:rPr b="1" lang="en-GB" sz="3200" spc="-1" strike="noStrike">
                <a:solidFill>
                  <a:srgbClr val="17375e"/>
                </a:solidFill>
                <a:latin typeface="Calibri"/>
                <a:ea typeface="Open Sans Light"/>
              </a:rPr>
              <a:t>Student Health and Wellbeing Surv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5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solidFill>
            <a:srgbClr val="69be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7808760" y="5529240"/>
            <a:ext cx="1335240" cy="13287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703440" y="1922400"/>
            <a:ext cx="77724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7375e"/>
                </a:solidFill>
                <a:latin typeface="Calibri"/>
                <a:ea typeface="Open Sans Light"/>
              </a:rPr>
              <a:t>Secondary schools across Wales are taking par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7375e"/>
                </a:solidFill>
                <a:latin typeface="Calibri"/>
                <a:ea typeface="Open Sans Light"/>
              </a:rPr>
              <a:t>All our year groups are taking part 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  <a:ea typeface="Open Sans Light"/>
              </a:rPr>
              <a:t>[delete as appropriate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7375e"/>
                </a:solidFill>
                <a:latin typeface="Calibri"/>
                <a:ea typeface="Open Sans Light"/>
              </a:rPr>
              <a:t>Classes in years 7 to 11 are taking part 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  <a:ea typeface="Open Sans Light"/>
              </a:rPr>
              <a:t>[delete as appropriate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7375e"/>
                </a:solidFill>
                <a:latin typeface="Calibri"/>
                <a:ea typeface="Open Sans Light"/>
              </a:rPr>
              <a:t>Your parents have been told about the surve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7375e"/>
                </a:solidFill>
                <a:latin typeface="Open Sans Light"/>
              </a:rPr>
              <a:t>Student Health and </a:t>
            </a:r>
            <a:r>
              <a:rPr b="1" lang="en-GB" sz="3600" spc="-1" strike="noStrike">
                <a:solidFill>
                  <a:srgbClr val="17375e"/>
                </a:solidFill>
                <a:latin typeface="Calibri"/>
              </a:rPr>
              <a:t>Wellbeing</a:t>
            </a:r>
            <a:r>
              <a:rPr b="1" lang="en-GB" sz="3600" spc="-1" strike="noStrike">
                <a:solidFill>
                  <a:srgbClr val="17375e"/>
                </a:solidFill>
                <a:latin typeface="Open Sans Light"/>
              </a:rPr>
              <a:t> Survey</a:t>
            </a:r>
            <a:br>
              <a:rPr sz="3600"/>
            </a:br>
            <a:r>
              <a:rPr b="0" i="1" lang="en-GB" sz="3600" spc="-1" strike="noStrike">
                <a:solidFill>
                  <a:srgbClr val="23892d"/>
                </a:solidFill>
                <a:latin typeface="Open Sans Light"/>
              </a:rPr>
              <a:t>Who is taking part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solidFill>
            <a:srgbClr val="69be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7808760" y="5529240"/>
            <a:ext cx="1335240" cy="13287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395280" y="1700280"/>
            <a:ext cx="8353440" cy="41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2147"/>
                </a:solidFill>
                <a:latin typeface="Calibri"/>
                <a:ea typeface="Open Sans Light"/>
              </a:rPr>
              <a:t>There are questions on lots of different aspects of health and wellbe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7375e"/>
                </a:solidFill>
                <a:latin typeface="Calibri"/>
                <a:ea typeface="Open Sans Light"/>
              </a:rPr>
              <a:t>Food and fitnes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7375e"/>
                </a:solidFill>
                <a:latin typeface="Calibri"/>
                <a:ea typeface="Open Sans Light"/>
              </a:rPr>
              <a:t>Smoking, e-cigarettes and alcoho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2147"/>
                </a:solidFill>
                <a:latin typeface="Calibri"/>
                <a:ea typeface="Open Sans Light"/>
              </a:rPr>
              <a:t>Cannabis and other drug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7375e"/>
                </a:solidFill>
                <a:latin typeface="Calibri"/>
                <a:ea typeface="Open Sans Light"/>
              </a:rPr>
              <a:t>School life and relationship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2147"/>
                </a:solidFill>
                <a:latin typeface="Calibri"/>
                <a:ea typeface="Open Sans Light"/>
              </a:rPr>
              <a:t>Sexual behaviour </a:t>
            </a:r>
            <a:r>
              <a:rPr b="0" lang="en-GB" sz="2600" spc="-1" strike="noStrike">
                <a:solidFill>
                  <a:srgbClr val="002147"/>
                </a:solidFill>
                <a:latin typeface="Calibri"/>
                <a:ea typeface="Open Sans Light"/>
              </a:rPr>
              <a:t>(Years 9/10/11/12/13 only) 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  <a:ea typeface="Open Sans Light"/>
              </a:rPr>
              <a:t>[delete as appropriate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7375e"/>
                </a:solidFill>
                <a:latin typeface="Calibri"/>
              </a:rPr>
              <a:t>Student Health and Wellbeing Survey</a:t>
            </a:r>
            <a:br>
              <a:rPr sz="3600"/>
            </a:br>
            <a:r>
              <a:rPr b="0" i="1" lang="en-GB" sz="3600" spc="-1" strike="noStrike">
                <a:solidFill>
                  <a:srgbClr val="23892d"/>
                </a:solidFill>
                <a:latin typeface="Calibri"/>
              </a:rPr>
              <a:t>What  is the survey about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5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solidFill>
            <a:srgbClr val="69be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7808760" y="5529240"/>
            <a:ext cx="1335240" cy="13287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703440" y="1700280"/>
            <a:ext cx="77724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375e"/>
                </a:solidFill>
                <a:latin typeface="Calibri"/>
                <a:ea typeface="Open Sans Light"/>
              </a:rPr>
              <a:t>The survey is </a:t>
            </a:r>
            <a:r>
              <a:rPr b="1" lang="en-GB" sz="2800" spc="-1" strike="noStrike" u="sng">
                <a:solidFill>
                  <a:srgbClr val="23892d"/>
                </a:solidFill>
                <a:uFillTx/>
                <a:latin typeface="Calibri"/>
                <a:ea typeface="Open Sans Light"/>
              </a:rPr>
              <a:t>confidential</a:t>
            </a:r>
            <a:r>
              <a:rPr b="1" lang="en-GB" sz="2800" spc="-1" strike="noStrike">
                <a:solidFill>
                  <a:srgbClr val="23892d"/>
                </a:solidFill>
                <a:latin typeface="Calibri"/>
                <a:ea typeface="Open Sans Light"/>
              </a:rPr>
              <a:t> </a:t>
            </a:r>
            <a:r>
              <a:rPr b="0" lang="en-GB" sz="2800" spc="-1" strike="noStrike">
                <a:solidFill>
                  <a:srgbClr val="002147"/>
                </a:solidFill>
                <a:latin typeface="Calibri"/>
                <a:ea typeface="Open Sans Light"/>
              </a:rPr>
              <a:t>– no one you know will see your answ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23892d"/>
                </a:solidFill>
                <a:uFillTx/>
                <a:latin typeface="Calibri"/>
                <a:ea typeface="Open Sans Light"/>
              </a:rPr>
              <a:t>Honest answers are essential</a:t>
            </a:r>
            <a:r>
              <a:rPr b="0" lang="en-GB" sz="2800" spc="-1" strike="noStrike" u="sng">
                <a:solidFill>
                  <a:srgbClr val="23892d"/>
                </a:solidFill>
                <a:uFillTx/>
                <a:latin typeface="Calibri"/>
                <a:ea typeface="Open Sans Light"/>
              </a:rPr>
              <a:t> </a:t>
            </a:r>
            <a:r>
              <a:rPr b="0" lang="en-GB" sz="2800" spc="-1" strike="noStrike">
                <a:solidFill>
                  <a:srgbClr val="17375e"/>
                </a:solidFill>
                <a:latin typeface="Calibri"/>
                <a:ea typeface="Open Sans Light"/>
              </a:rPr>
              <a:t>– the information you give will help look after the health and wellbeing of young people at this school and across Wa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7375e"/>
                </a:solidFill>
                <a:latin typeface="Calibri"/>
                <a:ea typeface="Open Sans Light"/>
              </a:rPr>
              <a:t>Some of the questions cover sensitive issues; if you do not feel comfortable answering a question, there is always an ‘</a:t>
            </a:r>
            <a:r>
              <a:rPr b="0" i="1" lang="en-GB" sz="2800" spc="-1" strike="noStrike">
                <a:solidFill>
                  <a:srgbClr val="17375e"/>
                </a:solidFill>
                <a:latin typeface="Calibri"/>
                <a:ea typeface="Open Sans Light"/>
              </a:rPr>
              <a:t>I do not want to answer</a:t>
            </a:r>
            <a:r>
              <a:rPr b="0" lang="en-GB" sz="2800" spc="-1" strike="noStrike">
                <a:solidFill>
                  <a:srgbClr val="17375e"/>
                </a:solidFill>
                <a:latin typeface="Calibri"/>
                <a:ea typeface="Open Sans Light"/>
              </a:rPr>
              <a:t>’ 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7375e"/>
                </a:solidFill>
                <a:latin typeface="Calibri"/>
              </a:rPr>
              <a:t>Student Health and Wellbeing Survey</a:t>
            </a:r>
            <a:br>
              <a:rPr sz="3600"/>
            </a:br>
            <a:r>
              <a:rPr b="0" i="1" lang="en-GB" sz="3600" spc="-1" strike="noStrike">
                <a:solidFill>
                  <a:srgbClr val="23892d"/>
                </a:solidFill>
                <a:latin typeface="Calibri"/>
              </a:rPr>
              <a:t>It’s important to know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5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solidFill>
            <a:srgbClr val="69be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7808760" y="5529240"/>
            <a:ext cx="1335240" cy="132876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7375e"/>
                </a:solidFill>
                <a:latin typeface="Calibri"/>
              </a:rPr>
              <a:t>Student Health and Wellbeing Survey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2"/>
          <a:srcRect l="0" t="0" r="0" b="19552"/>
          <a:stretch/>
        </p:blipFill>
        <p:spPr>
          <a:xfrm>
            <a:off x="920880" y="1028880"/>
            <a:ext cx="7302240" cy="46605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73" name="Freeform 3"/>
          <p:cNvSpPr/>
          <p:nvPr/>
        </p:nvSpPr>
        <p:spPr>
          <a:xfrm>
            <a:off x="7353360" y="2604960"/>
            <a:ext cx="826920" cy="830520"/>
          </a:xfrm>
          <a:custGeom>
            <a:avLst/>
            <a:gdLst/>
            <a:ahLst/>
            <a:rect l="l" t="t" r="r" b="b"/>
            <a:pathLst>
              <a:path w="827996" h="831028">
                <a:moveTo>
                  <a:pt x="413889" y="39182"/>
                </a:moveTo>
                <a:cubicBezTo>
                  <a:pt x="551675" y="-484"/>
                  <a:pt x="812634" y="-42237"/>
                  <a:pt x="827248" y="89286"/>
                </a:cubicBezTo>
                <a:cubicBezTo>
                  <a:pt x="841862" y="220809"/>
                  <a:pt x="639358" y="788655"/>
                  <a:pt x="501572" y="828321"/>
                </a:cubicBezTo>
                <a:cubicBezTo>
                  <a:pt x="363786" y="867987"/>
                  <a:pt x="15145" y="460891"/>
                  <a:pt x="531" y="327280"/>
                </a:cubicBezTo>
                <a:cubicBezTo>
                  <a:pt x="-14083" y="193669"/>
                  <a:pt x="276103" y="78848"/>
                  <a:pt x="413889" y="39182"/>
                </a:cubicBez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5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solidFill>
            <a:srgbClr val="69be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7808760" y="5529240"/>
            <a:ext cx="1335240" cy="13287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703440" y="1700280"/>
            <a:ext cx="77724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17375e"/>
                </a:solidFill>
                <a:latin typeface="Calibri"/>
                <a:ea typeface="Open Sans Light"/>
              </a:rPr>
              <a:t>You can take the survey in English or Welsh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17375e"/>
                </a:solidFill>
                <a:latin typeface="Calibri"/>
                <a:ea typeface="Open Sans Light"/>
              </a:rPr>
              <a:t>The length of the survey varies depending on your answers to the questions – so don’t worry if you finish earlier or later than others in your class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17375e"/>
                </a:solidFill>
                <a:latin typeface="Calibri"/>
                <a:ea typeface="Open Sans Light"/>
              </a:rPr>
              <a:t>In some parts of the survey the computer randomly chooses which questions you see, so you may see different questions to your classmates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7375e"/>
                </a:solidFill>
                <a:latin typeface="Calibri"/>
              </a:rPr>
              <a:t>Student Health and Wellbeing Survey</a:t>
            </a:r>
            <a:br>
              <a:rPr sz="3600"/>
            </a:br>
            <a:r>
              <a:rPr b="0" i="1" lang="en-GB" sz="3600" spc="-1" strike="noStrike">
                <a:solidFill>
                  <a:srgbClr val="23892d"/>
                </a:solidFill>
                <a:latin typeface="Calibri"/>
              </a:rPr>
              <a:t>It’s important to know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5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solidFill>
            <a:srgbClr val="69be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7808760" y="5529240"/>
            <a:ext cx="1335240" cy="13287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431640" y="1742760"/>
            <a:ext cx="828072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17375e"/>
                </a:solidFill>
                <a:latin typeface="Calibri"/>
                <a:ea typeface="Open Sans Light"/>
              </a:rPr>
              <a:t>If you are worried about any of the questions in the survey you can speak to a teacher or school counsellor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17375e"/>
                </a:solidFill>
                <a:latin typeface="Calibri"/>
                <a:ea typeface="Open Sans Light"/>
              </a:rPr>
              <a:t>Everyone’s answers are private – you should complete the survey by yourself and not ask others about their answer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7375e"/>
                </a:solidFill>
                <a:latin typeface="Calibri"/>
              </a:rPr>
              <a:t>Student Health and Wellbeing Survey</a:t>
            </a:r>
            <a:br>
              <a:rPr sz="3600"/>
            </a:br>
            <a:r>
              <a:rPr b="0" i="1" lang="en-GB" sz="3600" spc="-1" strike="noStrike">
                <a:solidFill>
                  <a:srgbClr val="23892d"/>
                </a:solidFill>
                <a:latin typeface="Calibri"/>
              </a:rPr>
              <a:t>It’s important to know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5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solidFill>
            <a:srgbClr val="69be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7808760" y="5529240"/>
            <a:ext cx="1335240" cy="13287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431640" y="981000"/>
            <a:ext cx="8280720" cy="204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7375e"/>
                </a:solidFill>
                <a:latin typeface="Calibri"/>
                <a:ea typeface="Open Sans Light"/>
              </a:rPr>
              <a:t>Our school will receive a report of the findings from the survey. Data from boys and girls in each year group is pooled, so no one can be identifi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7375e"/>
                </a:solidFill>
                <a:latin typeface="Calibri"/>
              </a:rPr>
              <a:t>Student Health and Wellbeing Repor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1521000" y="2698920"/>
            <a:ext cx="6303960" cy="2931840"/>
          </a:xfrm>
          <a:prstGeom prst="rect">
            <a:avLst/>
          </a:prstGeom>
          <a:ln w="0">
            <a:noFill/>
          </a:ln>
        </p:spPr>
      </p:pic>
      <p:sp>
        <p:nvSpPr>
          <p:cNvPr id="87" name="TextBox 6"/>
          <p:cNvSpPr/>
          <p:nvPr/>
        </p:nvSpPr>
        <p:spPr>
          <a:xfrm>
            <a:off x="1631880" y="566748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Percentage of students who eat breakfast every weekd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4T10:30:00Z</dcterms:created>
  <dc:creator>insrv</dc:creator>
  <dc:description/>
  <dc:language>en-US</dc:language>
  <cp:lastModifiedBy>insrv</cp:lastModifiedBy>
  <dcterms:modified xsi:type="dcterms:W3CDTF">2017-06-20T09:53:32Z</dcterms:modified>
  <cp:revision>55</cp:revision>
  <dc:subject/>
  <dc:title>PowerPoint Presentation</dc:title>
</cp:coreProperties>
</file>