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022B-E565-4C5C-8E94-CCED0F0BDC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CE2D-4E16-4452-837D-AA873C27091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E041-064C-47E9-95A4-0FBFA52CFD7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FBFC-646B-4A6F-B339-39BD48F146D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60C-C4A9-4C76-9491-ACBD4660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BBBD-8126-43F5-A3AB-8093991A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8492-3300-42B4-A9B8-D3116094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620-417F-4304-875B-82722803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3E53-AF93-42C6-B0C8-A080360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862-F259-4EF7-987B-AF51FCEF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3DC-AFB1-44F3-A8D9-A4EA821A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134-2874-40AF-95B9-031DF9D6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E3D-A93D-4AF6-A2B5-73FE4B81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F23-2CC6-455A-90F4-75748E31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CD3-32B4-4AC6-AD3A-50D95980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4B1-E679-4905-8D4F-78F61F47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5980-0753-47BE-9843-7BEB1A90C7D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chool Health Research Network</a:t>
            </a:r>
            <a:br>
              <a:rPr sz="3600"/>
            </a:br>
            <a:r>
              <a:rPr b="1" lang="en-GB" sz="1200" spc="-1" strike="noStrike">
                <a:solidFill>
                  <a:srgbClr val="17375e"/>
                </a:solidFill>
                <a:latin typeface="Calibri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0" t="0" r="0" b="10064"/>
          <a:stretch/>
        </p:blipFill>
        <p:spPr>
          <a:xfrm>
            <a:off x="1571760" y="1623960"/>
            <a:ext cx="6000480" cy="4259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49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17375e"/>
                </a:solidFill>
                <a:latin typeface="Calibri"/>
              </a:rPr>
              <a:t>Thank you for supporting the survey</a:t>
            </a:r>
            <a:br>
              <a:rPr sz="3600"/>
            </a:br>
            <a:br>
              <a:rPr sz="3600"/>
            </a:br>
            <a:r>
              <a:rPr b="0" lang="en-GB" sz="3400" spc="-1" strike="noStrike">
                <a:solidFill>
                  <a:srgbClr val="17375e"/>
                </a:solidFill>
                <a:latin typeface="Calibri"/>
              </a:rPr>
              <a:t>Find out more about  the </a:t>
            </a:r>
            <a:br>
              <a:rPr sz="3400"/>
            </a:br>
            <a:r>
              <a:rPr b="0" lang="en-GB" sz="3400" spc="-1" strike="noStrike">
                <a:solidFill>
                  <a:srgbClr val="17375e"/>
                </a:solidFill>
                <a:latin typeface="Calibri"/>
              </a:rPr>
              <a:t>School Health Research Network</a:t>
            </a:r>
            <a:br>
              <a:rPr sz="3400"/>
            </a:br>
            <a:r>
              <a:rPr b="1" lang="en-GB" sz="3400" spc="-1" strike="noStrike">
                <a:solidFill>
                  <a:srgbClr val="23892d"/>
                </a:solidFill>
                <a:latin typeface="Calibri"/>
              </a:rPr>
              <a:t>www.shrn.org.uk</a:t>
            </a:r>
            <a:br>
              <a:rPr sz="3400"/>
            </a:br>
            <a:br>
              <a:rPr sz="3400"/>
            </a:br>
            <a:r>
              <a:rPr b="0" lang="en-GB" sz="3400" spc="-1" strike="noStrike">
                <a:solidFill>
                  <a:srgbClr val="17375e"/>
                </a:solidFill>
                <a:latin typeface="Calibri"/>
              </a:rPr>
              <a:t>Follow us on Twitter! </a:t>
            </a:r>
            <a:br>
              <a:rPr sz="3400"/>
            </a:br>
            <a:r>
              <a:rPr b="1" lang="en-GB" sz="3400" spc="-1" strike="noStrike">
                <a:solidFill>
                  <a:srgbClr val="23892d"/>
                </a:solidFill>
                <a:latin typeface="Calibri"/>
              </a:rPr>
              <a:t>@SHRNWal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77840"/>
            <a:ext cx="1296720" cy="1128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93720" y="1684440"/>
            <a:ext cx="775656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6600" indent="-426600">
              <a:spcBef>
                <a:spcPts val="75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Our school is a member of the </a:t>
            </a:r>
            <a:r>
              <a:rPr b="1" lang="en-GB" sz="3000" spc="-1" strike="noStrike">
                <a:solidFill>
                  <a:srgbClr val="23892d"/>
                </a:solidFill>
                <a:latin typeface="Calibri"/>
                <a:ea typeface="Open Sans Light"/>
              </a:rPr>
              <a:t>School Health Research Network</a:t>
            </a: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, led by Cardiff Un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26600" indent="-426600">
              <a:spcBef>
                <a:spcPts val="75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As members, we are taking part in the Student Health and Wellbeing Survey in the autumn ter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26600" indent="-426600">
              <a:spcBef>
                <a:spcPts val="75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The survey is completed onl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26600" indent="-426600">
              <a:spcBef>
                <a:spcPts val="75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Our school will receive a Student Health and Wellbeing Report next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26600" indent="-4266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307440"/>
            <a:ext cx="705636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  <a:ea typeface="Open Sans Light"/>
              </a:rPr>
              <a:t>Student Health and Wellbeing Surv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703440" y="192240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All our year groups are taking part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  <a:ea typeface="Open Sans Light"/>
              </a:rPr>
              <a:t>[delete as appropriat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Classes in years 7 to 11 are taking part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  <a:ea typeface="Open Sans Light"/>
              </a:rPr>
              <a:t>[delete as appropriat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Parents have been told about the survey and have let the school know if they don’t want their child to take p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r>
              <a:rPr b="0" i="1" lang="en-GB" sz="3600" spc="-1" strike="noStrike">
                <a:solidFill>
                  <a:srgbClr val="23892d"/>
                </a:solidFill>
                <a:latin typeface="Calibri"/>
              </a:rPr>
              <a:t>Who is taking par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95280" y="1700280"/>
            <a:ext cx="83534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Core health topic are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Food and fit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Tobacco, e-cigarettes and alcoh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Calibri"/>
                <a:ea typeface="Open Sans Light"/>
              </a:rPr>
              <a:t>Cannabis and other dr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Mental and emotional health and wellbe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147"/>
                </a:solidFill>
                <a:latin typeface="Calibri"/>
                <a:ea typeface="Open Sans Light"/>
              </a:rPr>
              <a:t>Sexual behaviour (years 9/10/11-13 only)</a:t>
            </a:r>
            <a:r>
              <a:rPr b="0" lang="en-GB" sz="1100" spc="-1" strike="noStrike">
                <a:solidFill>
                  <a:srgbClr val="ff0000"/>
                </a:solidFill>
                <a:latin typeface="Calibri"/>
                <a:ea typeface="Open Sans Light"/>
              </a:rPr>
              <a:t> [delete as appropriate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Questions on home circumstances and pupil demograph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A list of the questions is available for teach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r>
              <a:rPr b="0" i="1" lang="en-GB" sz="3600" spc="-1" strike="noStrike">
                <a:solidFill>
                  <a:srgbClr val="23892d"/>
                </a:solidFill>
                <a:latin typeface="Calibri"/>
              </a:rPr>
              <a:t>What does the survey cov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703080" y="1700280"/>
            <a:ext cx="7972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The survey can be taken in English or Wel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The survey will take older/ more able pupils about 25-30 minutes to complete, but pupils who need more support may need a whole les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In some parts of the survey the computer randomly selects which questions pupils s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The survey also uses ‘skips’, so pupils will miss out some questions, depending on their previous ans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r>
              <a:rPr b="0" i="1" lang="en-GB" sz="3600" spc="-1" strike="noStrike">
                <a:solidFill>
                  <a:srgbClr val="23892d"/>
                </a:solidFill>
                <a:latin typeface="Calibri"/>
              </a:rPr>
              <a:t>It’s important to know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703440" y="1557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23892d"/>
                </a:solidFill>
                <a:uFillTx/>
                <a:latin typeface="Calibri"/>
                <a:ea typeface="Open Sans Light"/>
              </a:rPr>
              <a:t>Honest answers are essential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– it’s important pupils understand that information from the survey will help schools and others look after the health and wellbeing of young people in Wa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Our school may be taking part in a project where pupils have the option of providing their name, date of birth and postcode at the end of the survey. Further information about this is available. </a:t>
            </a:r>
            <a:r>
              <a:rPr b="0" lang="en-GB" sz="1100" spc="-1" strike="noStrike">
                <a:solidFill>
                  <a:srgbClr val="ff0000"/>
                </a:solidFill>
                <a:latin typeface="Calibri"/>
                <a:ea typeface="Open Sans Light"/>
              </a:rPr>
              <a:t>[delete if your school has opted out of the data linkage and longitudinal research project; schools who did not opt out will be notified in September if they have been selected to take part in the project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Pupils can leave out any question they do not want to answer – some of the questions cover sensitive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r>
              <a:rPr b="0" i="1" lang="en-GB" sz="3600" spc="-1" strike="noStrike">
                <a:solidFill>
                  <a:srgbClr val="23892d"/>
                </a:solidFill>
                <a:latin typeface="Calibri"/>
              </a:rPr>
              <a:t>It’s important to know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rcRect l="0" t="0" r="0" b="19552"/>
          <a:stretch/>
        </p:blipFill>
        <p:spPr>
          <a:xfrm>
            <a:off x="920880" y="1028880"/>
            <a:ext cx="7302240" cy="4660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Freeform 3"/>
          <p:cNvSpPr/>
          <p:nvPr/>
        </p:nvSpPr>
        <p:spPr>
          <a:xfrm>
            <a:off x="7353360" y="2604960"/>
            <a:ext cx="826920" cy="830520"/>
          </a:xfrm>
          <a:custGeom>
            <a:avLst/>
            <a:gdLst/>
            <a:ahLst/>
            <a:rect l="l" t="t" r="r" b="b"/>
            <a:pathLst>
              <a:path w="827996" h="831028">
                <a:moveTo>
                  <a:pt x="413889" y="39182"/>
                </a:moveTo>
                <a:cubicBezTo>
                  <a:pt x="551675" y="-484"/>
                  <a:pt x="812634" y="-42237"/>
                  <a:pt x="827248" y="89286"/>
                </a:cubicBezTo>
                <a:cubicBezTo>
                  <a:pt x="841862" y="220809"/>
                  <a:pt x="639358" y="788655"/>
                  <a:pt x="501572" y="828321"/>
                </a:cubicBezTo>
                <a:cubicBezTo>
                  <a:pt x="363786" y="867987"/>
                  <a:pt x="15145" y="460891"/>
                  <a:pt x="531" y="327280"/>
                </a:cubicBezTo>
                <a:cubicBezTo>
                  <a:pt x="-14083" y="193669"/>
                  <a:pt x="276103" y="78848"/>
                  <a:pt x="413889" y="3918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31640" y="1742760"/>
            <a:ext cx="8280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7375e"/>
                </a:solidFill>
                <a:latin typeface="Calibri"/>
                <a:ea typeface="Open Sans Light"/>
              </a:rPr>
              <a:t>Pupil information and con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Calibri"/>
                <a:ea typeface="Open Sans Light"/>
              </a:rPr>
              <a:t>There is information for pupils at the start of the surve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892d"/>
                </a:solidFill>
                <a:latin typeface="Calibri"/>
                <a:ea typeface="Open Sans Light"/>
              </a:rPr>
              <a:t>A copy of these information pages will be available to teachers from Sept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892d"/>
                </a:solidFill>
                <a:latin typeface="Calibri"/>
                <a:ea typeface="Open Sans Light"/>
              </a:rPr>
              <a:t>Please ensure pupils read the informatio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Calibri"/>
                <a:ea typeface="Open Sans Light"/>
              </a:rPr>
              <a:t>The first question asks for pupils’ consent to take pa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7375e"/>
                </a:solidFill>
                <a:latin typeface="Calibri"/>
                <a:ea typeface="Open Sans Light"/>
              </a:rPr>
              <a:t>Pupils are advised to speak to a teacher or school counsellor if they are worried by any of the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r>
              <a:rPr b="0" i="1" lang="en-GB" sz="3600" spc="-1" strike="noStrike">
                <a:solidFill>
                  <a:srgbClr val="23892d"/>
                </a:solidFill>
                <a:latin typeface="Calibri"/>
              </a:rPr>
              <a:t>It’s important to know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31640" y="981000"/>
            <a:ext cx="828072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17375e"/>
                </a:solidFill>
                <a:latin typeface="Calibri"/>
                <a:ea typeface="Open Sans Light"/>
              </a:rPr>
              <a:t>Our school will receive a report of the findings from the survey. Data is pooled by gender and year group, so no one can be identified. An exemplar report can be downloaded here: http://www.shrn.org.uk/benefits-for-schools/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521000" y="2698920"/>
            <a:ext cx="6303960" cy="2931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1631880" y="56674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ercentage of students who eat breakfast every week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10:30:00Z</dcterms:created>
  <dc:creator>insrv</dc:creator>
  <dc:description/>
  <dc:language>en-US</dc:language>
  <cp:lastModifiedBy>insrv</cp:lastModifiedBy>
  <dcterms:modified xsi:type="dcterms:W3CDTF">2017-06-20T10:47:03Z</dcterms:modified>
  <cp:revision>53</cp:revision>
  <dc:subject/>
  <dc:title>PowerPoint Presentation</dc:title>
</cp:coreProperties>
</file>